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9F1-9DDB-4BE8-A976-374C3859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833-5946-4CD8-B07A-C87B4C2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EBE-8501-4CCD-8FAA-E025F5B1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48E-9AAD-431E-9BC8-F6B24116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85A-6DBB-45B4-8661-BF49A1D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A96-AD63-4B8A-850E-68F8AD6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6D8-3045-4F42-BE3A-7CF60E9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4DE-55B6-45CC-BB19-4AD0F977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385-7764-43B0-BA54-2B383AF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B39-EC4B-4A05-9BA5-F1D9C0C2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F61-D65D-4434-8A9E-728DA96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CE7-D420-47DC-8D26-11DF769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593-4049-4450-AE49-E7735B9040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TODOLOGIA  PARA QUEM QUER APRENDER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UPO: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1999800"/>
            <a:ext cx="7215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ARTE DE ESTUDAR IMPLICA EM: CRI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DISCIP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APRENDIZAGEM SIGNIFICA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 CONTEXTUALI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MOS PRODUTOS DA ARTE DA NATURE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MOS NÓS MESMOS, MAS PRECISAMOS DE AJUDA PARA APRENDER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SUBIR CADA DEGRAU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MOS SEUS ARTIS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3" descr="http://www.sciam.com.br/noticias/img/cientistas_investigam_a_natureza_humana_e_descobrem_que_somos_bons_afinal_1__2012-11-22191023.jpg"/>
          <p:cNvPicPr/>
          <p:nvPr/>
        </p:nvPicPr>
        <p:blipFill>
          <a:blip r:embed="rId1"/>
          <a:stretch/>
        </p:blipFill>
        <p:spPr>
          <a:xfrm>
            <a:off x="1857240" y="2786040"/>
            <a:ext cx="1943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UDAR COMO ARTE NÃO É PRENDER-SE NO EXEMPLO DO PASS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ENAS EM SILÊN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B PRESS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ORÁRIO MARC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RÍF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3" descr="https://encrypted-tbn0.google.com/images?q=tbn:ANd9GcQytn-5YRWc-I_NIc4fk3K8EFvp_7eRj2-EXDxnqWxVXl6q4Yv2"/>
          <p:cNvPicPr/>
          <p:nvPr/>
        </p:nvPicPr>
        <p:blipFill>
          <a:blip r:embed="rId1"/>
          <a:stretch/>
        </p:blipFill>
        <p:spPr>
          <a:xfrm>
            <a:off x="5214960" y="1143000"/>
            <a:ext cx="2286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UDAR COMO ARTE 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EROSO-  computador transforma a lição de casa em algo mais prazeroso ou, no mínimo, menos sofr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NÂMICO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NTE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m 3" descr="http://ntexanxereproinfo.pbworks.com/f/baby%5b1%5d.jpg"/>
          <p:cNvPicPr/>
          <p:nvPr/>
        </p:nvPicPr>
        <p:blipFill>
          <a:blip r:embed="rId1"/>
          <a:stretch/>
        </p:blipFill>
        <p:spPr>
          <a:xfrm>
            <a:off x="3214800" y="4429080"/>
            <a:ext cx="246672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Imagem 6" descr="http://image.slidesharecdn.com/palestra1workshopderadiologia-131130064303-phpapp02/95/como-se-preparar-para-concurso-de-radiologia-45-638.jpg?cb=1385815561"/>
          <p:cNvPicPr/>
          <p:nvPr/>
        </p:nvPicPr>
        <p:blipFill>
          <a:blip r:embed="rId2"/>
          <a:stretch/>
        </p:blipFill>
        <p:spPr>
          <a:xfrm>
            <a:off x="5143680" y="2500200"/>
            <a:ext cx="2504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PONTÂN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EXTUALIZ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m 4" descr="Estudos e tecnologia combinam!"/>
          <p:cNvPicPr/>
          <p:nvPr/>
        </p:nvPicPr>
        <p:blipFill>
          <a:blip r:embed="rId1"/>
          <a:stretch/>
        </p:blipFill>
        <p:spPr>
          <a:xfrm>
            <a:off x="3429000" y="2581200"/>
            <a:ext cx="2286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23:58:27Z</dcterms:created>
  <dc:creator>Julia</dc:creator>
  <dc:description/>
  <dc:language>en-US</dc:language>
  <cp:lastModifiedBy>Julia</cp:lastModifiedBy>
  <dcterms:modified xsi:type="dcterms:W3CDTF">2015-03-29T01:13:21Z</dcterms:modified>
  <cp:revision>8</cp:revision>
  <dc:subject/>
  <dc:title>METODOLOGIA  PARA QUEM QUER APRENDER GRUPO: 4</dc:title>
</cp:coreProperties>
</file>